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3B6-85D1-40BB-A87A-DD298811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673-C1A9-4DAC-ABB8-063B0628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CE0-07E2-41EA-A739-9A3352D0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5DA-A188-4112-BF0F-FCD89354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E12-C2CF-49F1-B32B-7B3796F8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BD1-C208-45D5-ADE6-EA2FC862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7DD-B8E3-4FF9-905D-95771DC1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5F9-F8F3-4E0D-902A-6CB359E6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8720"/>
            <a:ext cx="82296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D20-959A-4AED-949A-0B546023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0D5-B074-4497-95EC-2BE22501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114-09A7-4C28-92AE-363185FB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421-4B51-4906-B671-1334F91A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25425000"/>
            <a:ext cx="28958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F8841-127A-47AB-BBA2-090D110105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ixaDeTexto 3"/>
          <p:cNvSpPr/>
          <p:nvPr/>
        </p:nvSpPr>
        <p:spPr>
          <a:xfrm>
            <a:off x="17640" y="19080"/>
            <a:ext cx="912636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.E José Alves Quito extensão sala Francisco Nogueira Sobrin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getec: Giliarde Rodrigues de Arau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tângulo 4"/>
          <p:cNvSpPr/>
          <p:nvPr/>
        </p:nvSpPr>
        <p:spPr>
          <a:xfrm>
            <a:off x="17640" y="969840"/>
            <a:ext cx="9126360" cy="1623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Calibri"/>
              </a:rPr>
              <a:t>Educação Híbrida e o Ambiente Virtual de Ensino e Aprendizagem Mood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eta para baixo 5"/>
          <p:cNvSpPr/>
          <p:nvPr/>
        </p:nvSpPr>
        <p:spPr>
          <a:xfrm>
            <a:off x="4338720" y="2593800"/>
            <a:ext cx="349200" cy="48924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Elipse 6"/>
          <p:cNvSpPr/>
          <p:nvPr/>
        </p:nvSpPr>
        <p:spPr>
          <a:xfrm>
            <a:off x="3430440" y="3139920"/>
            <a:ext cx="2389320" cy="18716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Ambiente moodle: Vídeos, leituras, áudios</a:t>
            </a: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ector reto 7"/>
          <p:cNvSpPr/>
          <p:nvPr/>
        </p:nvSpPr>
        <p:spPr>
          <a:xfrm>
            <a:off x="5819760" y="4075200"/>
            <a:ext cx="1046160" cy="50940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8"/>
          <p:cNvSpPr/>
          <p:nvPr/>
        </p:nvSpPr>
        <p:spPr>
          <a:xfrm>
            <a:off x="6516720" y="4300560"/>
            <a:ext cx="2387520" cy="1938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Professor: Facilitador e mediador da aprendizag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ector reto 9"/>
          <p:cNvSpPr/>
          <p:nvPr/>
        </p:nvSpPr>
        <p:spPr>
          <a:xfrm flipH="1">
            <a:off x="2339640" y="4075200"/>
            <a:ext cx="1090440" cy="4046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10"/>
          <p:cNvSpPr/>
          <p:nvPr/>
        </p:nvSpPr>
        <p:spPr>
          <a:xfrm>
            <a:off x="3456000" y="5711760"/>
            <a:ext cx="2130480" cy="16844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Ensino Híbri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lipse 11"/>
          <p:cNvSpPr/>
          <p:nvPr/>
        </p:nvSpPr>
        <p:spPr>
          <a:xfrm>
            <a:off x="3456000" y="8172360"/>
            <a:ext cx="2389320" cy="24354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Atividades para fazer em casa, aprendizagem dentro e fora da esc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lipse 14"/>
          <p:cNvSpPr/>
          <p:nvPr/>
        </p:nvSpPr>
        <p:spPr>
          <a:xfrm>
            <a:off x="6684840" y="7461360"/>
            <a:ext cx="2051280" cy="1577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Solucionar confli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ector reto 15"/>
          <p:cNvSpPr/>
          <p:nvPr/>
        </p:nvSpPr>
        <p:spPr>
          <a:xfrm>
            <a:off x="7710480" y="6238800"/>
            <a:ext cx="0" cy="122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lipse 16"/>
          <p:cNvSpPr/>
          <p:nvPr/>
        </p:nvSpPr>
        <p:spPr>
          <a:xfrm>
            <a:off x="727200" y="4076640"/>
            <a:ext cx="1871640" cy="1712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Aluno como Tutor: Aliado do Profes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ector reto 18"/>
          <p:cNvSpPr/>
          <p:nvPr/>
        </p:nvSpPr>
        <p:spPr>
          <a:xfrm flipH="1" flipV="1">
            <a:off x="2517840" y="5219280"/>
            <a:ext cx="992160" cy="101916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lipse 19"/>
          <p:cNvSpPr/>
          <p:nvPr/>
        </p:nvSpPr>
        <p:spPr>
          <a:xfrm>
            <a:off x="3652920" y="11434680"/>
            <a:ext cx="2070000" cy="20844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Integração sala de aula e ambientes virtu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ta para baixo 2073"/>
          <p:cNvSpPr/>
          <p:nvPr/>
        </p:nvSpPr>
        <p:spPr>
          <a:xfrm>
            <a:off x="4352760" y="5121360"/>
            <a:ext cx="335160" cy="474480"/>
          </a:xfrm>
          <a:prstGeom prst="downArrow">
            <a:avLst>
              <a:gd name="adj1" fmla="val 50000"/>
              <a:gd name="adj2" fmla="val 4987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ector reto 2085"/>
          <p:cNvSpPr/>
          <p:nvPr/>
        </p:nvSpPr>
        <p:spPr>
          <a:xfrm flipV="1">
            <a:off x="5586480" y="5955840"/>
            <a:ext cx="1279440" cy="598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eta para baixo 2089"/>
          <p:cNvSpPr/>
          <p:nvPr/>
        </p:nvSpPr>
        <p:spPr>
          <a:xfrm>
            <a:off x="4338720" y="7461360"/>
            <a:ext cx="484200" cy="528480"/>
          </a:xfrm>
          <a:prstGeom prst="down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ta para baixo 2094"/>
          <p:cNvSpPr/>
          <p:nvPr/>
        </p:nvSpPr>
        <p:spPr>
          <a:xfrm>
            <a:off x="4352760" y="10790280"/>
            <a:ext cx="470160" cy="506520"/>
          </a:xfrm>
          <a:prstGeom prst="down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19:00Z</dcterms:created>
  <dc:creator>Demond Wong</dc:creator>
  <dc:description/>
  <dc:language>en-US</dc:language>
  <cp:lastModifiedBy>Giliarde</cp:lastModifiedBy>
  <cp:lastPrinted>2015-02-25T21:45:26Z</cp:lastPrinted>
  <dcterms:modified xsi:type="dcterms:W3CDTF">2016-07-09T01:33:16Z</dcterms:modified>
  <cp:revision>267</cp:revision>
  <dc:subject/>
  <dc:title>PowerPoint Presentation</dc:title>
</cp:coreProperties>
</file>